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chimes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9B66-35F3-4F87-A12B-0C9C143C9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A0F7-0E6A-4312-AF36-FAC496B5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4F99-BB95-4407-BD3F-78E7D89E9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A844-0A1D-4BD1-8F4D-26258E292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F41D-12C0-46FE-B848-554C3CA5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F2A7-501E-4994-849E-7526854A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8AA2-B97A-4D7D-9557-6CF9FBCB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CF54-A40E-4F70-8A6C-C11895FC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974B-C2B8-4100-AB74-B05062F4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66B4-08B2-44BD-8C4E-A23A8FBA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38A1-890C-405D-B107-CCA3B681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2FC9-A1FF-49C5-B0FB-2532F9E2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AC68-DCA2-4B72-A2A5-5EAFEE885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Sałatka.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rzyw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Kwota przeznaczona na zakup składnikó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0033"/>
                </a:solidFill>
                <a:uFillTx/>
                <a:latin typeface="Times New Roman"/>
              </a:rPr>
              <a:t>25 Z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00"/>
                </a:solidFill>
                <a:latin typeface="Times New Roman"/>
              </a:rPr>
              <a:t>Składni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10 jaj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słoik majonez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2 opakowania mielonki tyrolskie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słoik papry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słoik ogórków konserw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słoik pieczarek marynowa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puszka grosz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ównanie cen pomięd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pl-PL" sz="3600" spc="-1" strike="noStrike">
                <a:solidFill>
                  <a:srgbClr val="808080"/>
                </a:solidFill>
                <a:latin typeface="Times New Roman"/>
              </a:rPr>
              <a:t>Lidlem</a:t>
            </a:r>
            <a:r>
              <a:rPr b="1" i="1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6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i="1" lang="pl-PL" sz="3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i="1" lang="pl-PL" sz="3600" spc="-1" strike="noStrike">
                <a:solidFill>
                  <a:srgbClr val="808080"/>
                </a:solidFill>
                <a:latin typeface="Times New Roman"/>
              </a:rPr>
              <a:t>Biedronk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BD06663_" descr=""/>
          <p:cNvPicPr/>
          <p:nvPr/>
        </p:nvPicPr>
        <p:blipFill>
          <a:blip r:embed="rId2"/>
          <a:stretch/>
        </p:blipFill>
        <p:spPr>
          <a:xfrm>
            <a:off x="4191120" y="3200400"/>
            <a:ext cx="3047760" cy="264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5800" y="1981080"/>
          <a:ext cx="7772400" cy="414036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28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i="1" lang="pl-PL" sz="28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Lid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en-US" sz="28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Biedron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majone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i="1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19z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9z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jaj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99z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99z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grosz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49z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5z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papry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88z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79z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miel. tyrols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9z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28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ogórki kon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9z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9z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pieczarki m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9z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29z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4038480" y="28954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3429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00800" y="3962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48520" y="4495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1120" y="5486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77120" y="6019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2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licze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3,99 + 4,19) + (1,25 + 2,79) + (3,49  2) +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,99 + 2,29) = (8,18 + 4,04) + (6,98 + 5,28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,22 + 12,26 =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24,48 z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0" y="2286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7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Przep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Pokroić ogórki, paprykę, szynkę, pieczarki i jajka. Wsypać do miski. Dodać groszku i majonezu. Ewentualnie przyprawić pieprzem i solą. Zostawić w lodówce na 1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SMACZN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4800" spc="-1" strike="noStrike">
                <a:solidFill>
                  <a:srgbClr val="ff0066"/>
                </a:solidFill>
                <a:latin typeface="Times New Roman"/>
              </a:rPr>
              <a:t>25zł - 24,48 = 0,52z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split dir="in" orient="vert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KONIEC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strips dir="ld"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17:04:39Z</dcterms:created>
  <dc:creator>kate xDxD joł ludzie</dc:creator>
  <dc:description/>
  <dc:language>en-US</dc:language>
  <cp:lastModifiedBy>kate xDxD joł ludzie</cp:lastModifiedBy>
  <dcterms:modified xsi:type="dcterms:W3CDTF">2010-05-12T18:17:57Z</dcterms:modified>
  <cp:revision>1</cp:revision>
  <dc:subject/>
  <dc:title>Sałatka...</dc:title>
</cp:coreProperties>
</file>